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848-7C25-4D8B-B791-198B878D7C9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B2FD-CA5A-4B77-9475-B72F359F4A5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8F2-EA09-4588-B8FF-1E1252CB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932-1EE2-49EC-A562-18B235C7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0B6-7E6C-4520-BA73-2BFD4BC7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45D-B295-4C78-9BE5-58330DB3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CC5-2F94-4CB7-9465-A14C9509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C0C-3067-4C03-A6C6-EC7925C3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418-E28F-4C74-BC29-7A25965F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A6D-5F66-4424-8739-93332875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746-B7A0-40E4-B4B2-0C7DF5E2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376-DA94-4DF7-B05D-D5E0BDD6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CE6-0529-494A-9611-EA7B38FA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BB3-9B8B-4E68-9DE8-DEF43E3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BDBD-9FDC-4BDB-BADC-8C776D177E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Wprowadzenie do roku czwartego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Konkurencja, reklama krajowa, segmentac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Wprowadzeni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ostatni rok, w którym będziecie zarządzać hotel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poznajcie się z nowymi elementami, które pojawią się w grze – te informacje mogą być kluczowe dla osiągnięcia wysokiego miejsca w rankingu, co oznacza dobre oceny dla całego zespoł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onkurencj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statnim roku gry będziecie musieli zareagować na pojawienie się w Pekunii konkurencyjnych hotel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y z nich posiada inną ofertę i strateg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D:\Data\awinniczuk\AppData\Local\Microsoft\Windows\Temporary Internet Files\Content.IE5\RMLPS5RP\MP900341368[1].jpg"/>
          <p:cNvPicPr/>
          <p:nvPr/>
        </p:nvPicPr>
        <p:blipFill>
          <a:blip r:embed="rId1"/>
          <a:stretch/>
        </p:blipFill>
        <p:spPr>
          <a:xfrm>
            <a:off x="6010200" y="4133880"/>
            <a:ext cx="2652840" cy="1888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539640" y="4292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Zdecydujcie, który konkurent  jest dla Was najgroźniejszy i dostosujcie swoje decyzje do nowej sytua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onkurencj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8" name="Symbol zastępczy zawartości 3" descr=""/>
          <p:cNvPicPr/>
          <p:nvPr/>
        </p:nvPicPr>
        <p:blipFill>
          <a:blip r:embed="rId1"/>
          <a:stretch/>
        </p:blipFill>
        <p:spPr>
          <a:xfrm>
            <a:off x="-19080" y="1832040"/>
            <a:ext cx="89359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onkurencj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60" name="Diagram 3" descr=""/>
          <p:cNvPicPr/>
          <p:nvPr/>
        </p:nvPicPr>
        <p:blipFill>
          <a:blip r:embed="rId1"/>
          <a:stretch/>
        </p:blipFill>
        <p:spPr>
          <a:xfrm>
            <a:off x="268200" y="1627200"/>
            <a:ext cx="8448840" cy="348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Program Files\Microsoft Office\MEDIA\CAGCAT10\j0205462.wmf"/>
          <p:cNvPicPr/>
          <p:nvPr/>
        </p:nvPicPr>
        <p:blipFill>
          <a:blip r:embed="rId2"/>
          <a:stretch/>
        </p:blipFill>
        <p:spPr>
          <a:xfrm>
            <a:off x="7020000" y="189000"/>
            <a:ext cx="12398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Reklama krajow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Od tego roku istnieje możliwość skorzystania z reklamy o zasięgu krajowy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o dyspozycji macie trzy kanały komunikacj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Są to najdroższe formy reklam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Diagram 3" descr=""/>
          <p:cNvPicPr/>
          <p:nvPr/>
        </p:nvPicPr>
        <p:blipFill>
          <a:blip r:embed="rId1"/>
          <a:stretch/>
        </p:blipFill>
        <p:spPr>
          <a:xfrm>
            <a:off x="969840" y="3255840"/>
            <a:ext cx="6935760" cy="2237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Data\awinniczuk\AppData\Local\Microsoft\Windows\Temporary Internet Files\Content.IE5\KRKMH3WR\MC900434781[1].png"/>
          <p:cNvPicPr/>
          <p:nvPr/>
        </p:nvPicPr>
        <p:blipFill>
          <a:blip r:embed="rId2"/>
          <a:stretch/>
        </p:blipFill>
        <p:spPr>
          <a:xfrm>
            <a:off x="1927080" y="3213000"/>
            <a:ext cx="798480" cy="798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D:\Data\awinniczuk\AppData\Local\Microsoft\Windows\Temporary Internet Files\Content.IE5\KGROFAG8\MC900083069[1].wmf"/>
          <p:cNvPicPr/>
          <p:nvPr/>
        </p:nvPicPr>
        <p:blipFill>
          <a:blip r:embed="rId3"/>
          <a:stretch/>
        </p:blipFill>
        <p:spPr>
          <a:xfrm>
            <a:off x="1922400" y="3986280"/>
            <a:ext cx="798480" cy="725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:\Data\awinniczuk\AppData\Local\Microsoft\Windows\Temporary Internet Files\Content.IE5\N3EJHAEY\MC900371064[1].wmf"/>
          <p:cNvPicPr/>
          <p:nvPr/>
        </p:nvPicPr>
        <p:blipFill>
          <a:blip r:embed="rId4"/>
          <a:stretch/>
        </p:blipFill>
        <p:spPr>
          <a:xfrm>
            <a:off x="1922400" y="4711680"/>
            <a:ext cx="9511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Segmentacj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egmentacj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podział rynku na grupy konsumentów, wykazujące podobne preferencje w podejściu do danego produ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rynku hotelarskim Pekunii istnieją cztery segmenty klientów. Wykupcie badanie marketingowe, aby dowiedzieć się więcej na ich tem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06T11:20:44Z</dcterms:modified>
  <cp:revision>11</cp:revision>
  <dc:subject/>
  <dc:title>Slajd 1</dc:title>
</cp:coreProperties>
</file>